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B6A-805A-4A21-BCF2-CFA489F9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: Lessless Global: max(diff(ecg)) &lt; 128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7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8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’: Lossey Global: mean(diff(ecg)) &lt; 8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2x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L: Lossless Local: 4x-5x improvement before extra bi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x-3x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less: Del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ey: 5% RLE w/ Codeword Siz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er Energy to Burst Data Block Decreased by Less Data to Transmit Plus Core Execu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 Energy to Transmit 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TTER, Break Even at ‘1’, Infinite Improvement at ‘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664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87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49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664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87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IC Node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ssion Heuristics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.I.N.C.H.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Final Design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495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Georgia"/>
              </a:rPr>
              <a:t>Steve Jocke, Kyle Ringgenberg, Stuart Wooter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777777"/>
                </a:solidFill>
                <a:latin typeface="Georgia"/>
              </a:rPr>
              <a:t>&lt;scj4s, kringg, wooters&gt;@virginia.edu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324480" cy="4754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7242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32960" y="44197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Tail, but no Bi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121932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Sign B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Significant Degree of Overhea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Fidelity is Data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ion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 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9528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7400" y="3429000"/>
            <a:ext cx="1066680" cy="3808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er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dd 1.2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2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6.67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2438280"/>
          <a:ext cx="4495680" cy="28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438280"/>
                    <a:ext cx="449568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GHz Local Oscill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Dela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626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471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un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05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39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9880" y="2666880"/>
          <a:ext cx="5334120" cy="25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666880"/>
                    <a:ext cx="53341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 – 3 Stage Inverter and Buffer 1.5 G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Tim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Energ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2p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vg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02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 Speed Power Examp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VCO Core: 1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1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51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ixer:97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9-50GHz Gilbert Cel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mplifier 54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60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52nJ/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04μJ/2K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8672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Tiebout, M.; Wohlmuth, H.-D.; Simburger, W., "A 1V 51GHz fully-integrated VCO in 0.12/spl mu/m CMOS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 Con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2002. Digest of Technical Papers. ISSCC. 2002 IEEE Internation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2, no., pp.238-239,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Lin, C.-S.; Wu, P.-S.; Chang, H.-Y.; Wang, H., "A 9-50-GHz Gilbert-cell down-conversion mixer in 0.13-/spl mu/m CMOS technology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icrowave and Wireless Components Letters, IEE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16, no.5, pp. 293-295, May 200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oan, C.H.; Emami, S.; Niknejad, A.M.; Brodersen, R.W., "Millimeter-wave CMOS design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, IEEE Journal o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40, no.1, pp. 144-155, Jan. 2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Consumption of P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No Compressio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ngr_nopres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8000" y="640080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Consumption of P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easurement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sim Simulator used to measur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in MS (Mixed Signal / Analog M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IC Power Summar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NOP Inst Power 318.1nW (Averaged over 4 NOP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AVG Inst Power 322.95nW (All runtime -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AVG Inst Power 336.78nW  (Over Compression Algorith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AVG Inst Power 324.46nW  (all runtime –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Inst Power  323.7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Power Modes 1.51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onsumption is about the same no matter what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free I-cycles recovers waste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ould throttle back clock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Data Flow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05240" y="3295800"/>
                <a:ext cx="533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295280" y="2217600"/>
            <a:ext cx="7162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Totals for Communication Chann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.8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5.6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06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.1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luetoot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7.5pJ/bit – 165n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248520"/>
            <a:ext cx="70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Roving Networks RN-41 V1.5 11/14/07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se Case (Bluetooth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.4n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IC16C5X.UVa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Interru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 Input ports /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output 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               32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voltage of 3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lock frequency of 8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divided down to 200Khz for PIC internal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200 Instructions (I-cycles) between ADC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verhead requires approximately 30 I-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to track input values for gain adjustment to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~ 170 I-Cycles free for compression, second core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Repetition with Occurrence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: Only Identical Values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3]0 1 3 [2]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: Values with a Toleranc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[4]0 3 [3]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word Size – Max Repetitio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– Insert Repetition Code Eve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x BLOCK =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– “Stray-a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Repetition Bloc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– Worst Case is Worse than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– Saturates to Best Compress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able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Values with Changes in Valu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less Global: Greatest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3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2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7x 2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1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Local: Eac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ed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x 1-bit, 3x 2-bit “Word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for “Word”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 Global: Mean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1-bit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coded as: 0 0 0 1 2 3 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325920" cy="475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743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440" y="2438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ly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3188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9:00:52Z</dcterms:created>
  <dc:creator>David Robinson</dc:creator>
  <dc:description/>
  <dc:language>en-US</dc:language>
  <cp:lastModifiedBy>snw7f</cp:lastModifiedBy>
  <dcterms:modified xsi:type="dcterms:W3CDTF">2008-05-01T13:05:09Z</dcterms:modified>
  <cp:revision>18</cp:revision>
  <dc:subject/>
  <dc:title>PowerPoint Presentation</dc:title>
</cp:coreProperties>
</file>